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DA9-A3E1-474A-BC84-38CA2DE1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380-EB8F-4B68-9307-33950B4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50C-132A-4D2A-BEEA-EB4AD554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8CF-2B0D-4C0C-8F7B-C3516EA3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0A3-5705-495A-8448-8E13FA2B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F40-B61E-422A-A881-7CDB85FA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63E-C8B3-4501-9897-3C5AF375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1BE-FDF4-4A72-8617-66569398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E50-630B-4293-8493-091794E1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FC1-3EFC-4F0C-B0F4-A53DFD9B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0D5-75EA-48E7-9A6F-FDAE487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C57-FC81-4A8B-B2CD-55FEF95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F771-ADD4-4199-BE0F-571FF461D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pembert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371600"/>
            <a:ext cx="5105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ca cola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53341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5105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50292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mel Al-Shei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, February 1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4340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5562720"/>
            <a:ext cx="49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41008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410080"/>
            <a:ext cx="533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Warped_30, February 27,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05560" y="235080"/>
            <a:ext cx="2070000" cy="194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7120" y="95400"/>
            <a:ext cx="1451160" cy="180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22017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430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emberton"/>
          <p:cNvPicPr/>
          <p:nvPr/>
        </p:nvPicPr>
        <p:blipFill>
          <a:blip r:embed="rId1"/>
          <a:srcRect l="66236" t="0" r="0" b="0"/>
          <a:stretch/>
        </p:blipFill>
        <p:spPr>
          <a:xfrm>
            <a:off x="5715000" y="1981080"/>
            <a:ext cx="2895480" cy="264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emberton"/>
          <p:cNvPicPr/>
          <p:nvPr/>
        </p:nvPicPr>
        <p:blipFill>
          <a:blip r:embed="rId2"/>
          <a:srcRect l="0" t="0" r="38971" b="0"/>
          <a:stretch/>
        </p:blipFill>
        <p:spPr>
          <a:xfrm>
            <a:off x="457200" y="758880"/>
            <a:ext cx="4952880" cy="250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464832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ca Col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3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ember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Pemberton invented Coca Cola originally as a medic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 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a Cola was first made with coca syrup, brass kettle, cocaine, cola nuts, a rich source of caffeine, and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05 the cocaine and the nuts were removed and replaced with citric acid and a variety of fruit flav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billions of people drink Coca Cola everyday in nearly every nation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Pemberton earned his medical degree at age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1831, in Knoxville, Geo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pened his own drug store in Columbus, Geo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ivil war, he fought for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dicine he sold was called Pembrton’s French Wine C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lanta forbid the sale of alcohol in 1885, he only sold the coca syr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de the first coca cola in his backyard in 188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38:33Z</dcterms:created>
  <dc:creator>install</dc:creator>
  <dc:description/>
  <dc:language>en-US</dc:language>
  <cp:lastModifiedBy>install</cp:lastModifiedBy>
  <dcterms:modified xsi:type="dcterms:W3CDTF">2012-03-09T15:25:28Z</dcterms:modified>
  <cp:revision>7</cp:revision>
  <dc:subject/>
  <dc:title>Slide 1</dc:title>
</cp:coreProperties>
</file>